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9BF3-06D5-4FBD-A03C-52BFAF9D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B5C6-7CF1-4A66-85A9-7E3A7C15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13F5-93DD-4DB2-95A1-2B5003D7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A749-1AFB-4188-9447-60483813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2D62-9173-461B-83BC-B8B1FB35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FB81-DF68-4517-ACCE-D1BAC1BF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495D-AA76-43A5-A8AB-40D60134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9A90-AFF5-4E1C-B945-03827A23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AC2D-1C68-4E90-96CC-25EDBECF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6C58-3201-4207-849E-D7515340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F527-3A23-45A7-AA40-831F8ABD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6D66-E6B8-4CED-AB81-68B2F400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F2C7-094C-4C31-A98D-5F65E9A9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9208-41B6-4DCF-8182-80FC9AE4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3F4C-AC3B-4CC6-9C40-62CB33B7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E034-95C0-445B-8AD8-4D48E4885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AA37-357C-4084-8DB1-531460E1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539C-1856-4C4B-A7FF-9AEC9C3C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6679-F74C-4BDC-B502-EC871FA2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CDF5-E87E-4890-90FD-85E20452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D99A-EED7-46DE-8C57-EE2213D3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1082-F85F-4CBA-B157-96274A03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4B83-930E-4D09-8D4C-27B1A3E8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03A7-258C-4D30-921E-75F9BEFE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42FB-29A5-4651-9173-70E612ED8B9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1EFC-DE26-44C1-80A7-E20DF821216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m-Up Sent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ggie jackson swinged like a dynamo and hit three home runs in the final game of the 1977 world ser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y cobb is the 1st player excepted into the baseball hall of fa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Journal #19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ick one movie you have seen and disliked.  Write a review of that movie and explain why you didn’t like i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m-Up Sent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ohn Adams and Thomas Jefferson, our second and third Presidents both died on the fourth of July in 1826. On the 5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niversary of the signing of the Declaration of Independence (isn’t that amazing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 his deathbed, the philosopher socrates said “I ma not an athenian [a resident of Athens Greece] nor a Greek but a Citizen of the World,” neverthelss, Greek citizens accused his of corrupting the minds of young Athenia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Journal #20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ontaneous Writing: Magne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457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riday Warm-up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28600" y="91440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isle/I’l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isl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(noun) – a walkway between or along sections of a theater, a classroom, or the lik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) Jake walked up and down the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isle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trying to find a seat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’ll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– contraction of I wil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I’l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keep my promises if I am elected class president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3581280"/>
            <a:ext cx="8763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oose the proper word to make the sentences corr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isle, I’ll) Be Seeing You in Apple Blossom Time” is an old ball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There is a question as to whether or not (aisle, I’ll) be able to complete the jo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Heather looked absolutely beautiful as she walked down the church (aisle, I’l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(Aisle, I’ll) give it my very best effort, as I always 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52:09Z</dcterms:created>
  <dc:creator>tpagel</dc:creator>
  <dc:description/>
  <dc:language>en-US</dc:language>
  <cp:lastModifiedBy>tpagel</cp:lastModifiedBy>
  <dcterms:modified xsi:type="dcterms:W3CDTF">2010-06-03T16:52:42Z</dcterms:modified>
  <cp:revision>1</cp:revision>
  <dc:subject/>
  <dc:title>Warm-Up Sentences</dc:title>
</cp:coreProperties>
</file>